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7B2-D9DA-48F8-B9A8-9177C5E1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2E0-4CE7-4D4A-A934-1F7CDA7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2D2-B5D8-4D29-BA30-504404C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D4C-9E1E-409C-9DFD-0CE456FB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2C9F-3C03-449F-9CD8-F430C4DB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661-640A-4781-A466-85A7A653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FFCF-EC8A-48E6-90C4-DC3A0C1C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BEA-8E1E-42BF-B15C-3FB17668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5075-4A53-439B-90C5-02A3B3D1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08C5-9BD0-4626-AE7B-6F4F314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568B-3100-43A7-9ECD-5804994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952-C78F-44B9-857C-66AFA99E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299B-2AC3-44E0-BB57-DBEB1E2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4C1-8925-463C-99F5-D7E959B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74F-D7A8-4387-8B5F-D3529ED5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FCA8-8C68-45F0-9506-67F05921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8CC8-4F27-4E3D-A4CA-0AA66DF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BAB-5A08-4B56-82E1-F25F1F87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9B4-5ECD-41F5-9EE0-F01FA8FB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C2E-A90C-45F3-8F36-E3D32FC9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C3A-BE8D-40E4-8FC8-DC0CD08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1DF-D39B-45E1-8710-E3B9504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A44-11B4-49C8-B4D8-9E76226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C07-561E-4FDA-9718-CCEE2FA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09D7-A8CB-4F7C-8447-93A2278A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10E-C084-4019-92A4-12D674DA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nd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Frindle"/>
          <p:cNvPicPr/>
          <p:nvPr/>
        </p:nvPicPr>
        <p:blipFill>
          <a:blip r:embed="rId1"/>
          <a:stretch/>
        </p:blipFill>
        <p:spPr>
          <a:xfrm>
            <a:off x="6172200" y="152280"/>
            <a:ext cx="282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olutely important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ha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u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being stri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trait as seen by oth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licy of 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y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ship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ympic athle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tertained the possi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d great respect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441972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lov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playing in the out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nd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819520" y="3809880"/>
            <a:ext cx="3047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oma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eating that last cup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run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t bigg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05740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a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quain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the kid that was chosen as my part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st frie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i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said that our nex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signm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be a piece of 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se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048120" y="4495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said I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uarante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pot on the team in middle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rtain to happ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a pos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he follows the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du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arah’s cake will turn out delic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37339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12193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49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04920" y="54100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19720" y="1219320"/>
            <a:ext cx="373356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6483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6483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495680" y="5410080"/>
            <a:ext cx="37339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ething assigned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pecially work to be do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ople think and say the character of someone or something 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733920" y="6094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aware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forme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larger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creased in siz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33920" y="533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ys of proceeding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ethods of doing someth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de certain that something would happen as a resul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d great honor and reverence 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86200" y="762120"/>
            <a:ext cx="37339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16T19:05:34Z</dcterms:modified>
  <cp:revision>6</cp:revision>
  <dc:subject/>
  <dc:title>Frindle Vocabulary Words</dc:title>
</cp:coreProperties>
</file>